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34BDD-2D80-41BE-888B-4658C134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96E0-DB4B-4074-98B6-FEA11A54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E43D-F6CF-48BF-8F11-72080FC3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C9DC-25BD-488B-B063-C75FB9C7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8B7F-7301-4523-86AE-11297401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F6D6-9E94-48CC-A2B4-5D9A2F3F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5CC7-2013-4B32-A5F2-F1FC3337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0E56-14F1-456D-B852-F65A84C8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C3D8-8C98-47B6-A64E-1FC74F4B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362E-2FF0-446C-8F91-6B8C9BAB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2A23-A635-4FB4-8058-7F70AC43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B89E-D8C5-4DE7-942E-6899DDC9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A401-F41E-4758-9BBC-8CBB6E5A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FAF8-3EF4-47EA-BCBC-358CAA95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7877-A511-4DDF-995F-1B47826C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A83E-1186-406B-A3A8-881CE6B3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AEE3-1C0E-4F34-AF55-A4FE8131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4738-2980-402D-924E-CA3761BB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6DA8-962C-44F3-927A-A6E0A210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A8A8-0F53-4E2A-9010-81F21B82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7A88-8189-475C-838E-F960503E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070C-3A18-4C47-9D41-65419C3A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0062-AC81-443D-A684-5CE3F9A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710C-EEC7-431F-815C-4790D3BE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9DA5-D46E-440E-97EC-3CF5F0DDD1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71CE-1701-45CC-8A2E-BA193D9025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Till There Was No Remedy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(The Divided Kingdom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6, Lesson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g. 53-5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Kings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phetic The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Summ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 for repen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ay of the L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d’s concern for n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Messi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New Spiritual Order to co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o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ease and Agonizing Death of Jehoram of Judah – 2 Chron.21:18-2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horam, son of Ahab, still reigns in Isra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Stories About Elish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isha Increases A Widow’s Oil – 2 Kings 4:1-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widow’s crisis – v.1-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isha’s miraculous aid – 3-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hunammite Woman – 4:8-3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oom for hospitality – 8-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reward:  she will have a son – 11-1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rial:  her son dies – 18-2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Testimony:  Elisha is empowered by God to raise the son from the dead – 22-3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62320" y="3886200"/>
            <a:ext cx="1371600" cy="5335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304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hun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rom Shunem to Mt. Carmel and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50000">
            <a:off x="1219320" y="2209320"/>
            <a:ext cx="4572000" cy="381240"/>
          </a:xfrm>
          <a:prstGeom prst="leftRightArrow">
            <a:avLst>
              <a:gd name="adj1" fmla="val 50000"/>
              <a:gd name="adj2" fmla="val 23873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Stories of Elish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isha Purifies Stew – 2 Kings 4:38-4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oisonous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used by wild gou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rified by flour and mirac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 you see parallels between Elisha and Jesu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5:54:39Z</dcterms:created>
  <dc:creator>Terry W. Benton</dc:creator>
  <dc:description/>
  <dc:language>en-US</dc:language>
  <cp:lastModifiedBy>Frank D Vines</cp:lastModifiedBy>
  <dcterms:modified xsi:type="dcterms:W3CDTF">2005-08-09T13:28:39Z</dcterms:modified>
  <cp:revision>2</cp:revision>
  <dc:subject/>
  <dc:title>Till There Was No Remedy (The Divided Kingdom)</dc:title>
</cp:coreProperties>
</file>